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035E-3A7E-4321-A056-B375EE1E65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 Nucleus  Proton  Neutron  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unit of an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ATO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NUCLE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part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s most of an atom's ma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UCLE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most of an atom's mas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PRO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PROT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NEU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NEU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in shells that surround an atom's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LEC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lcome to MATTERVILL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elcome to MATTERVILLE 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DB7-F89E-4597-AD3D-69C4FDED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D61-7CDF-4CFD-928D-4D3409A5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A02-5502-4886-94CC-ECC7C21F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E5E-AA4C-47FD-89CA-AB7E7768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4283-4A36-4FC9-B8EA-7B3B53E1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6CEB-9D37-4B8B-A75F-83E590DD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3637-21DD-4D19-BD07-FE325241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EB60-5C26-4B5E-BFFA-2E4DB1D5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574E-4725-4586-8F94-13013FCA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7776-8230-4518-9D42-4C4DA019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2D0F-A104-4BF9-82C1-BC71C34F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61E-F599-43FE-BA84-6D4CAFA3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12C4-82FD-45B0-8026-E05EE3E5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3519-A48C-4281-8B3F-70A8BFE2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0458-E76E-45E5-81F2-81A96244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8554-DBA3-48FD-87AE-A73E902B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7DE4-3E3D-4D64-A8CF-E112FFB7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5A9-F7D8-48C4-9ECC-13647C44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135-0833-4A61-AB67-2EC908DC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8A6-1F22-461F-A70E-EEAF65DE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0A8-0954-4304-BE11-298D5EE3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B6D-2776-4B83-90B0-4DEAF3D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765-82A2-4E42-A4E0-BE40FD58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3E9-F8FD-4319-80E2-3B940222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FEB0-0C93-4CCB-8F68-467121E1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0DF0-9362-4258-BCB0-2EF932BEC3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TOMS AND ATOMIC STRUCTURE</a:t>
            </a:r>
            <a:br>
              <a:rPr sz="4000"/>
            </a:br>
            <a:br>
              <a:rPr sz="9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tom_animation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AT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Atom1"/>
          <p:cNvPicPr/>
          <p:nvPr/>
        </p:nvPicPr>
        <p:blipFill>
          <a:blip r:embed="rId1"/>
          <a:stretch/>
        </p:blipFill>
        <p:spPr>
          <a:xfrm>
            <a:off x="5607000" y="2057400"/>
            <a:ext cx="3344760" cy="38862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THE NUCLE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ins most of an atom's ma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nucleus1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0160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PROT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proton1"/>
          <p:cNvPicPr/>
          <p:nvPr/>
        </p:nvPicPr>
        <p:blipFill>
          <a:blip r:embed="rId1"/>
          <a:stretch/>
        </p:blipFill>
        <p:spPr>
          <a:xfrm>
            <a:off x="6095880" y="2362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NEU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neutron1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ELEC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electron1"/>
          <p:cNvPicPr/>
          <p:nvPr/>
        </p:nvPicPr>
        <p:blipFill>
          <a:blip r:embed="rId1"/>
          <a:stretch/>
        </p:blipFill>
        <p:spPr>
          <a:xfrm>
            <a:off x="60199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lcome to MATTERVILLE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3" descr="atompicture3"/>
          <p:cNvPicPr/>
          <p:nvPr/>
        </p:nvPicPr>
        <p:blipFill>
          <a:blip r:embed="rId1"/>
          <a:stretch/>
        </p:blipFill>
        <p:spPr>
          <a:xfrm>
            <a:off x="2543040" y="593640"/>
            <a:ext cx="405792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2:09:13Z</dcterms:created>
  <dc:creator>Shutty</dc:creator>
  <dc:description/>
  <dc:language>en-US</dc:language>
  <cp:lastModifiedBy>LEGION</cp:lastModifiedBy>
  <dcterms:modified xsi:type="dcterms:W3CDTF">2017-01-26T09:32:58Z</dcterms:modified>
  <cp:revision>5</cp:revision>
  <dc:subject/>
  <dc:title>Slide 1</dc:title>
</cp:coreProperties>
</file>